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BD9-6482-4E4A-AF83-71A0B849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A6B-9AF8-46E2-B076-EF673F3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E45-4694-4EE7-A7FE-939AE59A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C88-3D2F-4234-9141-FB00D4DB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3DA-1870-4094-A161-0E95E48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C4C-F15B-4E30-8CE2-DB5EF30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933-0444-42BD-872F-BA6D0B5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6C8-59EE-4E18-B60D-51C607B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4FB-981B-414B-AEC2-A3336BD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A87-44D2-4515-86C2-34FD2A0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B4F-4738-44C9-9591-039C8D1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C28-B61E-47B5-AA9A-8546DCA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2E0D70-6A67-4982-A9A5-95ED17845C1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9.1.jpg"/>
          <p:cNvPicPr/>
          <p:nvPr/>
        </p:nvPicPr>
        <p:blipFill>
          <a:blip r:embed="rId1"/>
          <a:stretch/>
        </p:blipFill>
        <p:spPr>
          <a:xfrm>
            <a:off x="169920" y="0"/>
            <a:ext cx="8803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9.2.jpg"/>
          <p:cNvPicPr/>
          <p:nvPr/>
        </p:nvPicPr>
        <p:blipFill>
          <a:blip r:embed="rId1"/>
          <a:stretch/>
        </p:blipFill>
        <p:spPr>
          <a:xfrm>
            <a:off x="392040" y="0"/>
            <a:ext cx="8359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Figure 9.3.jpg"/>
          <p:cNvPicPr/>
          <p:nvPr/>
        </p:nvPicPr>
        <p:blipFill>
          <a:blip r:embed="rId1"/>
          <a:stretch/>
        </p:blipFill>
        <p:spPr>
          <a:xfrm>
            <a:off x="2544840" y="0"/>
            <a:ext cx="4052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Figure 9.4.jpg"/>
          <p:cNvPicPr/>
          <p:nvPr/>
        </p:nvPicPr>
        <p:blipFill>
          <a:blip r:embed="rId1"/>
          <a:stretch/>
        </p:blipFill>
        <p:spPr>
          <a:xfrm>
            <a:off x="425520" y="0"/>
            <a:ext cx="8291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59Z</dcterms:created>
  <dc:creator>Administrator</dc:creator>
  <dc:description/>
  <dc:language>en-US</dc:language>
  <cp:lastModifiedBy>Administrator</cp:lastModifiedBy>
  <dcterms:modified xsi:type="dcterms:W3CDTF">2012-04-04T09:32:1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